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A42-0575-4AE1-8A38-644C9C34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E1E6-7210-404A-BAA3-51908DBE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61CD-8E64-4C96-9A9B-AA7D0485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18C-4AEE-4B51-8627-AAE18BC8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3A54-D973-4A81-AF8C-9B74FCDB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EF4-3F73-469C-A602-92C1123B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F9E-28FC-4ECD-AFE2-2A2EFE6B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C13-9436-4577-B539-2E44054C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A0A6-6816-4D76-93CE-EF3766CE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FB99-17D9-43BF-9158-0C86F0D4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6661-51B4-4D47-8ED5-4FEA097A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FA4-175B-49CF-8E48-3F469A35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A267-34CD-4CFC-95DB-A249BE56C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979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9280" y="177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R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256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GUIA DESPACH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2563920"/>
            <a:ext cx="216036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IMIR Y ENVI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335592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PCION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rot="16200000">
            <a:off x="4031640" y="16635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2"/>
            <a:endCxn id="45" idx="0"/>
          </p:cNvCxnSpPr>
          <p:nvPr/>
        </p:nvCxnSpPr>
        <p:spPr>
          <a:xfrm rot="16200000">
            <a:off x="4031280" y="3247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2"/>
            <a:endCxn id="44" idx="0"/>
          </p:cNvCxnSpPr>
          <p:nvPr/>
        </p:nvCxnSpPr>
        <p:spPr>
          <a:xfrm rot="16200000">
            <a:off x="4031280" y="2455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3059280" y="501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FACTUR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BOLETA HONORARIO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5" idx="2"/>
            <a:endCxn id="43" idx="0"/>
          </p:cNvCxnSpPr>
          <p:nvPr/>
        </p:nvCxnSpPr>
        <p:spPr>
          <a:xfrm rot="5400000">
            <a:off x="2411280" y="3283920"/>
            <a:ext cx="1079640" cy="23767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5" idx="2"/>
            <a:endCxn id="49" idx="0"/>
          </p:cNvCxnSpPr>
          <p:nvPr/>
        </p:nvCxnSpPr>
        <p:spPr>
          <a:xfrm rot="16200000">
            <a:off x="3599640" y="4471920"/>
            <a:ext cx="10796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50" idx="0"/>
          </p:cNvCxnSpPr>
          <p:nvPr/>
        </p:nvCxnSpPr>
        <p:spPr>
          <a:xfrm flipH="1" rot="16200000">
            <a:off x="4788000" y="3283560"/>
            <a:ext cx="1079640" cy="23770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1" idx="0"/>
          </p:cNvCxnSpPr>
          <p:nvPr/>
        </p:nvCxnSpPr>
        <p:spPr>
          <a:xfrm rot="5400000">
            <a:off x="3960000" y="799560"/>
            <a:ext cx="359640" cy="1440"/>
          </a:xfrm>
          <a:prstGeom prst="bentConnector3">
            <a:avLst>
              <a:gd name="adj1" fmla="val 181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059280" y="587700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LETA HONOR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9" idx="2"/>
            <a:endCxn id="55" idx="0"/>
          </p:cNvCxnSpPr>
          <p:nvPr/>
        </p:nvCxnSpPr>
        <p:spPr>
          <a:xfrm rot="16200000">
            <a:off x="399492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0" idx="2"/>
            <a:endCxn id="56" idx="0"/>
          </p:cNvCxnSpPr>
          <p:nvPr/>
        </p:nvCxnSpPr>
        <p:spPr>
          <a:xfrm rot="16200000">
            <a:off x="637164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299280" y="3716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 RECEPCIÓ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STENCIAS VS DOCTOS X 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99280" y="2995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GRESO INVENTARI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TARJETA EX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45" idx="3"/>
            <a:endCxn id="59" idx="1"/>
          </p:cNvCxnSpPr>
          <p:nvPr/>
        </p:nvCxnSpPr>
        <p:spPr>
          <a:xfrm>
            <a:off x="5219640" y="364392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5" idx="3"/>
            <a:endCxn id="60" idx="1"/>
          </p:cNvCxnSpPr>
          <p:nvPr/>
        </p:nvCxnSpPr>
        <p:spPr>
          <a:xfrm flipV="1">
            <a:off x="5219640" y="328356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68256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AS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43" idx="2"/>
            <a:endCxn id="63" idx="0"/>
          </p:cNvCxnSpPr>
          <p:nvPr/>
        </p:nvCxnSpPr>
        <p:spPr>
          <a:xfrm rot="16200000">
            <a:off x="161856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62520" y="4292640"/>
            <a:ext cx="36036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333360"/>
            <a:ext cx="2952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5640" y="537372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406404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334476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7628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97956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5440" y="1206360"/>
            <a:ext cx="109440" cy="135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60280"/>
            <a:ext cx="165564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B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4-19T05:39:22Z</dcterms:modified>
  <cp:revision>19</cp:revision>
  <dc:subject/>
  <dc:title>Diapositiva 1</dc:title>
</cp:coreProperties>
</file>